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9E5A-9322-4D4C-8933-CCF6B232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00BC-62A6-45B1-AC41-CD144B82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4A38-8BBB-4049-A689-A4C0A1A7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72FD-5289-4068-AD1A-B20F47DC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718F-4343-449C-A7E8-E0A865CB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F537-7227-4C56-8C31-F27099A1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AF25-02B9-4859-A27D-74719665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1C4F-8D87-431C-A4E2-C3FD4686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82FE-2327-4CE5-A072-54CE9FF7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AF45-71BD-427A-88E7-FD165FD4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336E-50D1-473A-B5B4-D6563B43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BAFB-2337-402F-A02D-265DEC51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2473-AE1C-4C37-8AF5-CFF14D64B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122720" y="0"/>
            <a:ext cx="5089680" cy="7543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0"/>
            <a:ext cx="2819520" cy="110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33"/>
                </a:solidFill>
                <a:latin typeface="Arial"/>
              </a:rPr>
              <a:t>فيكَ احتَميتُ يا ألله أنتَ إلهي إني آتٍ إليك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33"/>
                </a:solidFill>
                <a:latin typeface="Arial"/>
              </a:rPr>
              <a:t>فيكَ اعتصَمْتُ يا أللهُ  فأنتَ سيدي ولا خيرَ لي سِواك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81560" y="0"/>
            <a:ext cx="5662440" cy="792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52280"/>
            <a:ext cx="3276720" cy="119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"/>
              </a:rPr>
              <a:t>فيكَ اللهم كلُ رجائي فيكَ اللهمَ كلُ سعادتي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304920"/>
            <a:ext cx="358128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نتَ أمامي كلَّ حينٍ وعن يميني فلا أتزعزع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يبتهجُ قلبي بحُضورِكَ تُعلِّمُني سبيلَ الحيا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81560" y="0"/>
            <a:ext cx="5662440" cy="7924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52280"/>
            <a:ext cx="3276720" cy="119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"/>
              </a:rPr>
              <a:t>فيكَ اللهم كلُ رجائي فيكَ اللهمَ كلُ سعادتي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13:49:58Z</dcterms:created>
  <dc:creator>HANI SAFI</dc:creator>
  <dc:description/>
  <dc:language>en-US</dc:language>
  <cp:lastModifiedBy>HANI SAFI</cp:lastModifiedBy>
  <dcterms:modified xsi:type="dcterms:W3CDTF">2003-05-30T14:00:15Z</dcterms:modified>
  <cp:revision>1</cp:revision>
  <dc:subject/>
  <dc:title>Slide 1</dc:title>
</cp:coreProperties>
</file>